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F87-8BE3-4878-8224-CDF1DF1C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C6B-C6E0-4360-97E0-DAF851A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448-7613-4C70-AE64-D283CA61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B43-5DB5-497A-9190-E07CAECD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12D-54C5-49DD-8B78-92B08B5D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CAA-762A-429B-9F27-B330951B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01E-9690-486D-BEFB-0FF1717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94E-ED7A-4097-B77C-80E69C6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3F0-0CA7-437C-94CB-1FEACF2F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5A1-A6BD-4A52-BAD7-3CF7D24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5CE-ED54-4380-8840-978C81B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223-DE31-4768-B041-E6FD951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E09A-8732-44B6-8ADE-50F5791D20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8381880" cy="6188040"/>
        </p:xfrm>
        <a:graphic>
          <a:graphicData uri="http://schemas.openxmlformats.org/drawingml/2006/table">
            <a:tbl>
              <a:tblPr/>
              <a:tblGrid>
                <a:gridCol w="4267080"/>
                <a:gridCol w="2286000"/>
                <a:gridCol w="1828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mb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etic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  or  E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vitational Potential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E or E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gra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2-04-30T22:31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